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drumroll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D3B4-AF4C-4ED2-8B7A-975C4FC0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C1C5-7796-4E1D-A81C-4E513FA1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6C9-141D-485A-8A6A-B22011C7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83DD-AAA6-489E-8AD8-D1DF81C8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422B-A235-4CBA-AEA7-465E5EC5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27C0-A707-4D6B-A83D-DC464C6E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8600-D839-4B8A-B4CD-ABD322B0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A83A-435C-4CC5-936E-B8B20E72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254D-0207-4FE6-B1C4-FD1FDA41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3DE3-2B3E-4277-AD8C-F46B9E8B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6EA2-15C0-4B73-B9FC-EB4234FA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6630-2E5C-45C8-BA83-6B58D715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5D38-F9DD-4595-B95E-B4372661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7364-693D-42D2-889B-2BFBF03A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510B-929C-4067-ACD5-20DD3968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3307-B21D-4722-909A-A86D95C1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372B-B948-4195-89D3-1E6CF408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2BCD-E8C7-439A-878B-70E3812B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B5D4-1762-4479-9C72-AAC18DC7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345A-CFA3-4B66-96AC-30F91D3F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0377-CFD6-4064-A14D-A04E5BC7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5C61-A377-4335-8E49-63E99736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94A-238C-42A7-B9F1-E863D41B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4B3B-C308-4CEE-B170-BA6F7981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F2D0-C1A6-4D58-A492-B027F45CB007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28E2-A40D-46EE-934E-535A075D10FB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Tahoma"/>
              </a:rPr>
              <a:t>Using the Flashcard Templ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251424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py the presentation to your hard dri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two sets of templat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lides #3 &amp; 4 are for identifying ter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lides #5 &amp; 6 are for learning defini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n the slides using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lide sor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copy either set of slides for each term/definition you are going to construc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 to each slide and substitute the text with the proper terms or defini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ete this slide (slide #1) after you are d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ve the fi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FLASH CARD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95480" y="4419720"/>
            <a:ext cx="3810240" cy="2230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286000"/>
            <a:ext cx="8381880" cy="17524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ype the definition of the ter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711840" y="6172200"/>
            <a:ext cx="2078280" cy="45972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for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581280" y="4600440"/>
            <a:ext cx="2022480" cy="2257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1676160"/>
            <a:ext cx="5867280" cy="11430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Type the correct term or answ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240" y="3504960"/>
            <a:ext cx="66294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  <a:effectLst>
            <a:outerShdw dist="107932" dir="2700000" blurRad="0" rotWithShape="0">
              <a:srgbClr val="3399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peat the same definition you typed in the previous sli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6711840" y="6172200"/>
            <a:ext cx="2078280" cy="45972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for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81200" y="6172200"/>
            <a:ext cx="2634480" cy="45972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for 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581280" y="4600440"/>
            <a:ext cx="2022480" cy="22575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Type the ter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1219320"/>
            <a:ext cx="7010280" cy="21333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Type the correct definition for the term below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4648320"/>
            <a:ext cx="6629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  <a:effectLst>
            <a:outerShdw dist="107932" dir="2700000" blurRad="0" rotWithShape="0">
              <a:srgbClr val="3399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epeat the term from the previous sli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6181200" y="6172200"/>
            <a:ext cx="2634480" cy="45972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for 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21:45:51Z</dcterms:created>
  <dc:creator>Dianne Jones</dc:creator>
  <dc:description/>
  <dc:language>en-US</dc:language>
  <cp:lastModifiedBy>jonesd</cp:lastModifiedBy>
  <dcterms:modified xsi:type="dcterms:W3CDTF">2002-06-26T00:14:42Z</dcterms:modified>
  <cp:revision>16</cp:revision>
  <dc:subject/>
  <dc:title>FLASH CARDS</dc:title>
</cp:coreProperties>
</file>